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A95-AC1C-4705-9592-C2363E25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1D8-AD5C-44CB-AAD2-70380988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8F7-92D3-4587-958C-F19E8884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E7A-169C-481A-B6C8-36B310D4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D01-A6FF-428A-999F-D618C176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ACD-7ACF-42F6-B869-2316855D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B89-467E-49CC-BABF-D8335D9E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376-7D24-4D04-B335-192D36F8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20D-618E-4BCF-992D-45F3C88C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463-680B-4D45-85EE-DE0F7A3E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0C0-4917-40C3-AE0A-49F481BF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B25-F261-4C1D-8EA2-2E51B2AD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4ED2-472E-43C1-A104-7373B67FB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hyperlink" Target="http://images.google.com/imgres?imgurl=http://www.bigdumptruck.com/image/badprom.jpg&amp;imgrefurl=http://www.bigdumptruck.com/2005_01_01_oldblog2.php&amp;usg=__qbDgJFLsF0ky5sXgSsBnIltHXrA=&amp;h=306&amp;w=276&amp;sz=35&amp;hl=en&amp;start=3&amp;um=1&amp;tbnid=sS9MGzk4fXe4eM:&amp;tbnh=117&amp;tbnw=106&amp;prev=/images%3Fq%3Dbad%2Bmakeup%26hl%3Den%26safe%3Dstrict%26um%3D1" TargetMode="External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omic"/>
              </a:rPr>
              <a:t>Theatre</a:t>
            </a: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Make</a:t>
            </a: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-</a:t>
            </a:r>
            <a:r>
              <a:rPr b="0" lang="en-US" sz="4400" spc="-1" strike="noStrike">
                <a:solidFill>
                  <a:srgbClr val="990000"/>
                </a:solidFill>
                <a:latin typeface="comic"/>
              </a:rPr>
              <a:t>Up</a:t>
            </a: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Safe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"/>
              </a:rPr>
              <a:t>Kayla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Robert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3200" spc="-1" strike="noStrike">
                <a:solidFill>
                  <a:srgbClr val="990000"/>
                </a:solidFill>
                <a:latin typeface="comic"/>
              </a:rPr>
              <a:t>Hi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omic"/>
              </a:rPr>
              <a:t>Farewe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cc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comic"/>
              </a:rPr>
              <a:t>We Hope You All</a:t>
            </a: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4800" spc="-1" strike="noStrike">
                <a:solidFill>
                  <a:srgbClr val="99ff99"/>
                </a:solidFill>
                <a:latin typeface="comic"/>
              </a:rPr>
              <a:t>Learned Something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cc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comic"/>
              </a:rPr>
              <a:t>Especially: AJ Barron</a:t>
            </a: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4800" spc="-1" strike="noStrike">
                <a:solidFill>
                  <a:srgbClr val="99ff99"/>
                </a:solidFill>
                <a:latin typeface="comic"/>
              </a:rPr>
              <a:t>And Drew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Why you shouldn’t use other people lipstick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"/>
              </a:rPr>
              <a:t>Yes, never ever use someone elses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makeup . If that person had a cold </a:t>
            </a:r>
            <a:r>
              <a:rPr b="0" lang="en-US" sz="3200" spc="-1" strike="noStrike">
                <a:solidFill>
                  <a:srgbClr val="990000"/>
                </a:solidFill>
                <a:latin typeface="comic"/>
              </a:rPr>
              <a:t>sore or a virus of some kind and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used the lipstick &amp; then you used it </a:t>
            </a:r>
            <a:r>
              <a:rPr b="0" lang="en-US" sz="3200" spc="-1" strike="noStrike">
                <a:solidFill>
                  <a:srgbClr val="990000"/>
                </a:solidFill>
                <a:latin typeface="comic"/>
              </a:rPr>
              <a:t>later, you can catch something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(her or his germs ) are then on the </a:t>
            </a:r>
            <a:r>
              <a:rPr b="0" lang="en-US" sz="3200" spc="-1" strike="noStrike">
                <a:solidFill>
                  <a:srgbClr val="990000"/>
                </a:solidFill>
                <a:latin typeface="comic"/>
              </a:rPr>
              <a:t>lipstick you then use. Lipstick is a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big no, no! But that goes for </a:t>
            </a:r>
            <a:r>
              <a:rPr b="0" lang="en-US" sz="3200" spc="-1" strike="noStrike">
                <a:solidFill>
                  <a:srgbClr val="990000"/>
                </a:solidFill>
                <a:latin typeface="comic"/>
              </a:rPr>
              <a:t>mascara , eyeliner &amp; eyeshadow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to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you </a:t>
            </a: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using</a:t>
            </a: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 makeup 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from </a:t>
            </a: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“communal” </a:t>
            </a: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make-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up </a:t>
            </a: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kit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, use </a:t>
            </a: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clean </a:t>
            </a: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brush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or </a:t>
            </a: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hands </a:t>
            </a:r>
            <a:r>
              <a:rPr b="0" lang="en-US" sz="2400" spc="-1" strike="noStrike">
                <a:solidFill>
                  <a:srgbClr val="993300"/>
                </a:solidFill>
                <a:latin typeface="comic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apply.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tock Photo titled: Beautiful Young Woman With Blond Hair And Expressive Eyes Holding A Set Of Make-up Brushes Conceptual Horizontal Portrait Glamour Fashion Beauty Concept Twenty Years Old Caucasian Woman Artistically Stylized, USE OF THIS IMAGE WITHOUT PERMISSION IS PROHIBITED"/>
          <p:cNvPicPr/>
          <p:nvPr/>
        </p:nvPicPr>
        <p:blipFill>
          <a:blip r:embed="rId1"/>
          <a:stretch/>
        </p:blipFill>
        <p:spPr>
          <a:xfrm>
            <a:off x="685800" y="1600200"/>
            <a:ext cx="8077320" cy="4778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comic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else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4000" spc="-1" strike="noStrike">
                <a:solidFill>
                  <a:srgbClr val="333300"/>
                </a:solidFill>
                <a:latin typeface="comic"/>
              </a:rPr>
              <a:t>you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come </a:t>
            </a:r>
            <a:r>
              <a:rPr b="0" lang="en-US" sz="4000" spc="-1" strike="noStrike">
                <a:solidFill>
                  <a:srgbClr val="333300"/>
                </a:solidFill>
                <a:latin typeface="comic"/>
              </a:rPr>
              <a:t>out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like </a:t>
            </a:r>
            <a:r>
              <a:rPr b="0" lang="en-US" sz="4000" spc="-1" strike="noStrike">
                <a:solidFill>
                  <a:srgbClr val="333300"/>
                </a:solidFill>
                <a:latin typeface="comic"/>
              </a:rPr>
              <a:t>this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joker.jpg Joker image by riccio_album"/>
          <p:cNvPicPr/>
          <p:nvPr/>
        </p:nvPicPr>
        <p:blipFill>
          <a:blip r:embed="rId1"/>
          <a:stretch/>
        </p:blipFill>
        <p:spPr>
          <a:xfrm>
            <a:off x="2057400" y="1981080"/>
            <a:ext cx="5343480" cy="408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"/>
              </a:rPr>
              <a:t>A Fact You Need 2 Know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comic"/>
              </a:rPr>
              <a:t>It can be harmful to remove spirit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"/>
              </a:rPr>
              <a:t>gum and latexes by pulling them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omic"/>
              </a:rPr>
              <a:t>off of the skin.  Peel them off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"/>
              </a:rPr>
              <a:t>gently and apply as little solvent,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omic"/>
              </a:rPr>
              <a:t>such as acetone or alcohol, as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"/>
              </a:rPr>
              <a:t>possible.  Once they are removed,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omic"/>
              </a:rPr>
              <a:t>use oil, emollients, or moisturizers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"/>
              </a:rPr>
              <a:t>as needed to counter the drying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omic"/>
              </a:rPr>
              <a:t>effects of the solvents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Make_up_I_by_Wytske"/>
          <p:cNvPicPr/>
          <p:nvPr/>
        </p:nvPicPr>
        <p:blipFill>
          <a:blip r:embed="rId1"/>
          <a:stretch/>
        </p:blipFill>
        <p:spPr>
          <a:xfrm>
            <a:off x="0" y="0"/>
            <a:ext cx="198108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ake_up_by_ciaRaaa"/>
          <p:cNvPicPr/>
          <p:nvPr/>
        </p:nvPicPr>
        <p:blipFill>
          <a:blip r:embed="rId2"/>
          <a:stretch/>
        </p:blipFill>
        <p:spPr>
          <a:xfrm>
            <a:off x="1981080" y="0"/>
            <a:ext cx="2543400" cy="292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eacock_make_up_2_by_Dead_Rose_16"/>
          <p:cNvPicPr/>
          <p:nvPr/>
        </p:nvPicPr>
        <p:blipFill>
          <a:blip r:embed="rId3"/>
          <a:stretch/>
        </p:blipFill>
        <p:spPr>
          <a:xfrm>
            <a:off x="4495680" y="0"/>
            <a:ext cx="2286000" cy="2895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Make_UP_by_inoksz"/>
          <p:cNvPicPr/>
          <p:nvPr/>
        </p:nvPicPr>
        <p:blipFill>
          <a:blip r:embed="rId4"/>
          <a:stretch/>
        </p:blipFill>
        <p:spPr>
          <a:xfrm>
            <a:off x="0" y="28195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bw_glam_make_up_by_sljokica"/>
          <p:cNvPicPr/>
          <p:nvPr/>
        </p:nvPicPr>
        <p:blipFill>
          <a:blip r:embed="rId5"/>
          <a:stretch/>
        </p:blipFill>
        <p:spPr>
          <a:xfrm>
            <a:off x="2057400" y="2895480"/>
            <a:ext cx="2038320" cy="221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make_up_by_fairyprincesse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Deiviis_make_up_by_Shota_seme"/>
          <p:cNvPicPr/>
          <p:nvPr/>
        </p:nvPicPr>
        <p:blipFill>
          <a:blip r:embed="rId7"/>
          <a:stretch/>
        </p:blipFill>
        <p:spPr>
          <a:xfrm>
            <a:off x="4038480" y="2895480"/>
            <a:ext cx="1428840" cy="221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Extreme_Make_Up_by_KungfuHamster"/>
          <p:cNvPicPr/>
          <p:nvPr/>
        </p:nvPicPr>
        <p:blipFill>
          <a:blip r:embed="rId8"/>
          <a:stretch/>
        </p:blipFill>
        <p:spPr>
          <a:xfrm>
            <a:off x="5486400" y="2895480"/>
            <a:ext cx="1676520" cy="221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Make_up_by_hpiekema"/>
          <p:cNvPicPr/>
          <p:nvPr/>
        </p:nvPicPr>
        <p:blipFill>
          <a:blip r:embed="rId9"/>
          <a:stretch/>
        </p:blipFill>
        <p:spPr>
          <a:xfrm>
            <a:off x="7162920" y="289548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BadMakeUp"/>
          <p:cNvPicPr/>
          <p:nvPr/>
        </p:nvPicPr>
        <p:blipFill>
          <a:blip r:embed="rId10"/>
          <a:stretch/>
        </p:blipFill>
        <p:spPr>
          <a:xfrm>
            <a:off x="0" y="5029200"/>
            <a:ext cx="284796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badprom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19520" y="51055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bad_makeup_by_eruferu"/>
          <p:cNvPicPr/>
          <p:nvPr/>
        </p:nvPicPr>
        <p:blipFill>
          <a:blip r:embed="rId13"/>
          <a:stretch/>
        </p:blipFill>
        <p:spPr>
          <a:xfrm>
            <a:off x="4952880" y="5105520"/>
            <a:ext cx="198144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339638113_1725744b95_o"/>
          <p:cNvPicPr/>
          <p:nvPr/>
        </p:nvPicPr>
        <p:blipFill>
          <a:blip r:embed="rId14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"/>
              </a:rPr>
              <a:t>Cream</a:t>
            </a: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comic"/>
              </a:rPr>
              <a:t>sticks:</a:t>
            </a: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"/>
              </a:rPr>
              <a:t>slice </a:t>
            </a:r>
            <a:r>
              <a:rPr b="0" lang="en-US" sz="2400" spc="-1" strike="noStrike">
                <a:solidFill>
                  <a:srgbClr val="ff6600"/>
                </a:solidFill>
                <a:latin typeface="comic"/>
              </a:rPr>
              <a:t>these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comic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"/>
              </a:rPr>
              <a:t>to </a:t>
            </a:r>
            <a:r>
              <a:rPr b="0" lang="en-US" sz="2400" spc="-1" strike="noStrike">
                <a:solidFill>
                  <a:srgbClr val="ff6600"/>
                </a:solidFill>
                <a:latin typeface="comic"/>
              </a:rPr>
              <a:t>individual </a:t>
            </a:r>
            <a:r>
              <a:rPr b="0" lang="en-US" sz="2400" spc="-1" strike="noStrike">
                <a:solidFill>
                  <a:srgbClr val="99cc00"/>
                </a:solidFill>
                <a:latin typeface="comic"/>
              </a:rPr>
              <a:t>papers </a:t>
            </a:r>
            <a:r>
              <a:rPr b="0" lang="en-US" sz="2400" spc="-1" strike="noStrike">
                <a:solidFill>
                  <a:srgbClr val="ff6600"/>
                </a:solidFill>
                <a:latin typeface="comic"/>
              </a:rPr>
              <a:t>such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comic"/>
              </a:rPr>
              <a:t>butter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"/>
              </a:rPr>
              <a:t>trays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.  </a:t>
            </a:r>
            <a:r>
              <a:rPr b="0" lang="en-US" sz="2400" spc="-1" strike="noStrike">
                <a:solidFill>
                  <a:srgbClr val="ff6600"/>
                </a:solidFill>
                <a:latin typeface="comic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"/>
              </a:rPr>
              <a:t>and </a:t>
            </a:r>
            <a:r>
              <a:rPr b="0" lang="en-US" sz="2400" spc="-1" strike="noStrike">
                <a:solidFill>
                  <a:srgbClr val="ff6600"/>
                </a:solidFill>
                <a:latin typeface="comic"/>
              </a:rPr>
              <a:t>reuse </a:t>
            </a:r>
            <a:r>
              <a:rPr b="0" lang="en-US" sz="2400" spc="-1" strike="noStrike">
                <a:solidFill>
                  <a:srgbClr val="99cc00"/>
                </a:solidFill>
                <a:latin typeface="comic"/>
              </a:rPr>
              <a:t>them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comic"/>
              </a:rPr>
              <a:t>individually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"/>
              </a:rPr>
              <a:t>for </a:t>
            </a:r>
            <a:r>
              <a:rPr b="0" lang="en-US" sz="2400" spc="-1" strike="noStrike">
                <a:solidFill>
                  <a:srgbClr val="ff6600"/>
                </a:solidFill>
                <a:latin typeface="comic"/>
              </a:rPr>
              <a:t>touch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-</a:t>
            </a:r>
            <a:r>
              <a:rPr b="0" lang="en-US" sz="2400" spc="-1" strike="noStrike">
                <a:solidFill>
                  <a:srgbClr val="99cc00"/>
                </a:solidFill>
                <a:latin typeface="comic"/>
              </a:rPr>
              <a:t>ups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lancaster_sport_cream_stick_300"/>
          <p:cNvPicPr/>
          <p:nvPr/>
        </p:nvPicPr>
        <p:blipFill>
          <a:blip r:embed="rId2"/>
          <a:stretch/>
        </p:blipFill>
        <p:spPr>
          <a:xfrm>
            <a:off x="2514600" y="190512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3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comic"/>
              </a:rPr>
              <a:t>Another Fact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comic"/>
              </a:rPr>
              <a:t>For special makeups, putty, wax, beeswax, and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comic"/>
              </a:rPr>
              <a:t>morticians' wax all can be used to build up a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comic"/>
              </a:rPr>
              <a:t>part of the face for theatrical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comic"/>
              </a:rPr>
              <a:t>purposes.  They all have similar properties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, </a:t>
            </a:r>
            <a:r>
              <a:rPr b="0" lang="en-US" sz="2400" spc="-1" strike="noStrike">
                <a:solidFill>
                  <a:srgbClr val="666699"/>
                </a:solidFill>
                <a:latin typeface="comic"/>
              </a:rPr>
              <a:t>but they differ slightly in hardness.  Collodion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comic"/>
              </a:rPr>
              <a:t>can be used to create mock wrinkles or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comic"/>
              </a:rPr>
              <a:t>scars.  Latex can be made to function in many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comic"/>
              </a:rPr>
              <a:t>ways, and it also acts as a glue, as does spirit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comic"/>
              </a:rPr>
              <a:t>gum.  You can replace spirit gum with surgical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comic"/>
              </a:rPr>
              <a:t>adhesive when resistance to moisture and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comic"/>
              </a:rPr>
              <a:t>excessive motion of the skin are not called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comic"/>
              </a:rPr>
              <a:t>for.</a:t>
            </a: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make-upicons.jpg Makeup 1 image by 30k-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694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5:13:37Z</dcterms:created>
  <dc:creator> </dc:creator>
  <dc:description/>
  <dc:language>en-US</dc:language>
  <cp:lastModifiedBy> </cp:lastModifiedBy>
  <dcterms:modified xsi:type="dcterms:W3CDTF">2009-09-18T15:25:09Z</dcterms:modified>
  <cp:revision>3</cp:revision>
  <dc:subject/>
  <dc:title>Theatre Make-Up Safety </dc:title>
</cp:coreProperties>
</file>